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21A8-53C9-424E-9AEB-8FEE3B4D7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9775-5A50-43DF-BDBD-56605F5FC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596F-33E9-4C92-BC8C-DD0EC35B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E42-2A6D-4421-8A58-5353D341C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8696-B1B7-4561-B949-662E26F3C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69E1-D2E2-45D1-B24D-78C00718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12243-C522-4B80-8B2E-F8C558F4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D4847-D089-401C-B66F-593D94D83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DC4E-ADD3-4CD3-B423-F61AEC85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0836C-9A90-4AE5-B009-AA1B42388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004A5-A5B0-4A23-8259-E0E50BDD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4930-78A4-43EE-A9B6-A0F0A410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4262A-CA7B-4E3B-B286-0F6B2D83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4FC5-6BB6-4795-AED0-F41628DC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9F55C-3639-4B47-A821-767A94C9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AC45C-A7BB-4BA4-8982-5CA28E246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BE957-4564-44BC-BF3B-162EF5574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60D5-7D17-40B3-9373-D1CB83F2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BFDA-8F2C-4F61-992D-622CCEC1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FC4E-DAFD-416A-8EDC-2E15B9AC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9EF-DAC2-44BA-A3E2-B7D9ACEE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7670-6D43-4B34-A2D2-390B60D8A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28C8-8A24-4C24-AADF-46579B44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AB8F-96A9-4D5D-AD8C-EE71616C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CBB53-8E41-46E4-958F-F15C07C4E6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A7C4B-A681-4AFA-8B5B-A0EEF80A02B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777240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Monday, May 11, 2008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304560" y="9907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ive: Students will be able to create identify the difference between facts, quotes, and opin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o-now: Record your notebook check 1,2,3, and in your Quizzes Section on page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Activity 2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article with a partner. Highlight any facts, quotes, or opinions you can f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the lin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nd your reas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other text features you could f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240" y="12204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5/11/08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Cornell Notes- Information Sources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330066"/>
                </a:solidFill>
                <a:latin typeface="Arial"/>
              </a:rPr>
              <a:t>pg. 53</a:t>
            </a:r>
            <a:endParaRPr b="1" lang="en-US" sz="2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nalyzing the information in feature articl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gazine and newspaper writers present their information in 3 different w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Quo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) Fa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Opin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Quot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Quo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r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ords spoken by a person, that another person later re-states in their article, making sure to give credit to the person who said it originall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How do you recognize it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the easiest type to find. Quotes have quotation marks around the text to show they are copying exactly what someone sai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of a quote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he said, “I am one hundred percent sure I saw John Smith leave the crime scene with victim’s sister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esus once said, “Do unto others, as you would do to them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ictionary says that, “Courage means to act brave knowing the dangers present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238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Fact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15328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ts,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re true statements or things that have been proven to be tru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ow do I recognize fact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ts are usually backed up with data, statistics, studies, etc. They have to be proven somehow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facts can also be quotes if they were taken word for word out of another book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areful not to confuse facts with opinio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one can argue against it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the truth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122040"/>
            <a:ext cx="71629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0066"/>
                </a:solidFill>
                <a:latin typeface="Arial"/>
              </a:rPr>
              <a:t>Opinions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opin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writer’s personal beliefs, judgments, or thoughts on an issue. It is biased and does not mean it is the truth or right/ wrong view, but it is their view on the iss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 I recognize 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inions are often stated as “I” statements, such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I believ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… However, sometimes the writer does not use I and just states it as a fact, when it is really their opinio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the most tricky one to distinguish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 is debatable. Someone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could arg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gainst i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s of Opin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 believe that all people should recycl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people who do not recycle should be fined $100 a month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aving children before you get married is a si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ortions are wrong because they kill the lives of potential bab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ctivity 1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tatements sheet in front of you. Determine whether the statement is a fact, opinion, or a quote, by writing “F”, “O”, or “Q” on the lin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n answer the questions that follow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20:03:22Z</dcterms:created>
  <dc:creator>BPD</dc:creator>
  <dc:description/>
  <dc:language>en-US</dc:language>
  <cp:lastModifiedBy>BPS</cp:lastModifiedBy>
  <dcterms:modified xsi:type="dcterms:W3CDTF">2008-05-12T11:58:21Z</dcterms:modified>
  <cp:revision>7</cp:revision>
  <dc:subject/>
  <dc:title>Wednesday, May 7, 2008</dc:title>
</cp:coreProperties>
</file>